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14ED-3CE1-4A7B-AD1B-44519C86F2D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szichológia mint tudomá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8EDE-9A7D-4D2D-9DD5-3ECDD2EA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7FAF-39D0-4606-BC5F-4C47D7FF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3B4C-9CF1-426C-88D5-9DF1687F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2317-2B98-4E8C-A6AE-7EB6D67C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FE15-0B38-440B-AAFA-47621A25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B78E-B751-4595-A0F0-0300B7D5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61E6-E2EF-4FDC-BD92-12BC2B1A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97D4-AD39-4F1A-B130-7CB3D7A9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861A-799E-42DD-9C9F-3B59EA73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3FC6-3D06-4D92-8759-48838479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7DBD-242F-422F-93FA-0F146199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4200-33D1-49C9-97B4-47A56232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8EB4-CBB4-4443-A442-D44D5FF5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0F0B-CE31-49E2-9B05-7BEECC6B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FDE8-71F8-4480-9852-545B5F42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8CA1-E050-487C-B8E2-791D7EE3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4238-DB52-452E-934C-25674447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AC74-95F8-4A0A-A818-43EBBE36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2C5D-5FFE-4405-957A-FB230691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B27A-A6A6-4537-A75B-C414495D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55E-30CD-49E2-8866-D9D41DB5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8485-0CF2-457F-B28A-7D418F80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080B-1F06-4085-95AC-CD65E72F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638D-081B-462F-B748-D678BD8E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B637-F3AF-48C1-8BD0-37ECB52B3013}" type="slidenum">
              <a:rPr b="0" lang="hu-H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4C0C-844E-41AB-9312-3FCD5C039A3F}" type="slidenum">
              <a:rPr b="0" lang="hu-H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pszichológia mint tudomán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szichológia nézőpontjai (megnevezés – rendsz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szichológia nézőpontja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rövid leírá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zsgálati módszerek – eljárás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zemélyiség (problémá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zemélyiség - munkadefiníció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5. Személyiség - munkadefiníció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2017440"/>
            <a:ext cx="8559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zemélyen belül pszichofizikai rendszerek olyan dinamikus szerveződése, amely az egyén jellegzetes viselkedés-, gondolat- és érzésmintáit hozza lét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ológiai alapokon alakuló – elsősorban a tanulás valamely típusa hatására – folyamatosan változó rendszer, melyben a tanulás újabb tanulást induká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 Pszichológiai nézőpont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19280" y="1490400"/>
            <a:ext cx="4355640" cy="4296600"/>
            <a:chOff x="2519280" y="1490400"/>
            <a:chExt cx="4355640" cy="4296600"/>
          </a:xfrm>
        </p:grpSpPr>
        <p:sp>
          <p:nvSpPr>
            <p:cNvPr id="109" name="_s74760"/>
            <p:cNvSpPr/>
            <p:nvPr/>
          </p:nvSpPr>
          <p:spPr>
            <a:xfrm flipH="1" flipV="1">
              <a:off x="3623760" y="3448440"/>
              <a:ext cx="535680" cy="17856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74759"/>
            <p:cNvSpPr/>
            <p:nvPr/>
          </p:nvSpPr>
          <p:spPr>
            <a:xfrm>
              <a:off x="2519280" y="2689200"/>
              <a:ext cx="1130400" cy="11577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f0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iológiai megközelít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74769"/>
            <p:cNvSpPr/>
            <p:nvPr/>
          </p:nvSpPr>
          <p:spPr>
            <a:xfrm flipH="1">
              <a:off x="4034160" y="4273920"/>
              <a:ext cx="331200" cy="46620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74768"/>
            <p:cNvSpPr/>
            <p:nvPr/>
          </p:nvSpPr>
          <p:spPr>
            <a:xfrm>
              <a:off x="3135600" y="4629240"/>
              <a:ext cx="1130400" cy="11577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f0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ehaviorista megközelít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74767"/>
            <p:cNvSpPr/>
            <p:nvPr/>
          </p:nvSpPr>
          <p:spPr>
            <a:xfrm>
              <a:off x="5030640" y="4272120"/>
              <a:ext cx="331200" cy="46800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74766"/>
            <p:cNvSpPr/>
            <p:nvPr/>
          </p:nvSpPr>
          <p:spPr>
            <a:xfrm>
              <a:off x="5128560" y="4629240"/>
              <a:ext cx="1130400" cy="11577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f0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Fenomenológia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megközelít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74764"/>
            <p:cNvSpPr/>
            <p:nvPr/>
          </p:nvSpPr>
          <p:spPr>
            <a:xfrm flipV="1">
              <a:off x="5235120" y="3446640"/>
              <a:ext cx="537120" cy="17856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74763"/>
            <p:cNvSpPr/>
            <p:nvPr/>
          </p:nvSpPr>
          <p:spPr>
            <a:xfrm>
              <a:off x="5744160" y="2689200"/>
              <a:ext cx="1130760" cy="11577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f0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Kognitív megközelít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74762"/>
            <p:cNvSpPr/>
            <p:nvPr/>
          </p:nvSpPr>
          <p:spPr>
            <a:xfrm flipV="1">
              <a:off x="4697280" y="2648160"/>
              <a:ext cx="0" cy="57888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74761"/>
            <p:cNvSpPr/>
            <p:nvPr/>
          </p:nvSpPr>
          <p:spPr>
            <a:xfrm>
              <a:off x="4132080" y="1490400"/>
              <a:ext cx="1130400" cy="11577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f0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300" spc="-1" strike="noStrike">
                  <a:solidFill>
                    <a:srgbClr val="000000"/>
                  </a:solidFill>
                  <a:latin typeface="Tahoma"/>
                </a:rPr>
                <a:t>Pszichoanaliti-kus megközelít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74758"/>
            <p:cNvSpPr/>
            <p:nvPr/>
          </p:nvSpPr>
          <p:spPr>
            <a:xfrm>
              <a:off x="4132080" y="3227040"/>
              <a:ext cx="1130400" cy="1157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pszichológi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/a Pszichológiai nézőpont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34372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Típus-tulajdonság-elmélet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Hippokratész: (</a:t>
            </a:r>
            <a:r>
              <a:rPr b="0" i="1" lang="hu-HU" sz="2800" spc="-1" strike="noStrike">
                <a:solidFill>
                  <a:srgbClr val="000000"/>
                </a:solidFill>
                <a:latin typeface="Tahoma"/>
              </a:rPr>
              <a:t>testnedvek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szangvinikus, 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kolerikus,melankolikus,flegmatik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Pavlov: (</a:t>
            </a:r>
            <a:r>
              <a:rPr b="0" i="1" lang="hu-HU" sz="2800" spc="-1" strike="noStrike">
                <a:solidFill>
                  <a:srgbClr val="000000"/>
                </a:solidFill>
                <a:latin typeface="Tahoma"/>
              </a:rPr>
              <a:t>idegrendszer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gyenge, féktelen,nyugodt, 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élé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retschmer:</a:t>
            </a:r>
            <a:r>
              <a:rPr b="0" i="1" lang="hu-HU" sz="2800" spc="-1" strike="noStrike">
                <a:solidFill>
                  <a:srgbClr val="000000"/>
                </a:solidFill>
                <a:latin typeface="Tahoma"/>
              </a:rPr>
              <a:t> (testalkat) 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leptoszom, piknikus,atletik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Sheldon: (</a:t>
            </a:r>
            <a:r>
              <a:rPr b="0" i="1" lang="hu-HU" sz="2800" spc="-1" strike="noStrike">
                <a:solidFill>
                  <a:srgbClr val="000000"/>
                </a:solidFill>
                <a:latin typeface="Tahoma"/>
              </a:rPr>
              <a:t>szomatotípus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endomorf, 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mezomorf, 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ektomorf, normá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Kritikus ellenérvek: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 determináció, leírás – tényleges ok, 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pontos-e az együttjárá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2./b Behaviorista nézőpo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841536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Viselkedés-lélekt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 különböző ingerek viselkedéses válaszokat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váltanak k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z inger (stimulus – S) és a válasz (response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– R) között nem feltételeznek mentális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folyamatok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 viselkedésváltozásokat a megerősítés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(jutalmazás – büntetés) típusa kondicionál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 személyiség megismerésének alapja a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„külső” megfigyel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Képviselők: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Watson, Ski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ritikai megállapítások: 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leegyszerűsíti az embert, nem 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képes a sokféleség magyarázatá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2./c Pszichoanalitikus nézőpo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63100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 tudattalan gondolatok, félelmek, vágyak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befolyásolják a viselkedé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Cselekedeteinknek oka van, de ez nem feltétlenül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racionál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 tevékenységekhez szükséges energiát a szexuális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észtetés, a libidó biztosít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 személyiség fejlődését a pszichoszexuális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fejlődés befolyásol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Képviselők: </a:t>
            </a:r>
            <a:r>
              <a:rPr b="0" i="1" lang="hu-HU" sz="2800" spc="-1" strike="noStrike">
                <a:solidFill>
                  <a:srgbClr val="000000"/>
                </a:solidFill>
                <a:latin typeface="Tahoma"/>
              </a:rPr>
              <a:t>Freud (Adler, Ju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Kritikai megjegyzések: 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beteg személyiségek 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megfigyelésére épül – az egészséges személyiségről 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Tahoma"/>
              </a:rPr>
              <a:t>nem beszé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/d Kognitív nézőpo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7040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zemélyiség információ-feldolgozó rendsz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z ingerek feldolgozása egyedi: konstruáljuk a világunk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z ingerekhez érzelmek kapcsolódnak, ami motivál valamilyen típusú tevékenység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örekvés a különböző nézőpontok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zintetizálásá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/e Fenomenológiai nézőpo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zubjektív tapasztalásra alapul – hogyan képzeli el a személyiség a világ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z egyéni élmények leírására helyezik a hangsúl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m törekszik a lehetséges viselkedés előre jelzésé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manisztiku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gközelítés: az önmegvalósítás szükséglete vezérli tettein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ritikai észrevételek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 tudományos megfigyelések és elméletek szerepét megkérdőjelez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Vizsgálati módszerek -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járás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gfigyelés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ervezett, spontá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ísérlet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aboratóriumi, tere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érdőívek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jektív, feleletválasztásos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eljesítmén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ESZT: kritériumoknak kell megfelel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megbízhatóság: megismételhetőség - egybehangzóság, érvényesség ua. személy teljesítménye hasonló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. A személyiség - problémá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559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gyon kompl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ülönböző nézőpontból – mást tekintenek centrális jelentőségűn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ami” minden definícióból hiányzi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nkadefiníciók használata jellemz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13:39:07Z</dcterms:created>
  <dc:creator>Agi</dc:creator>
  <dc:description/>
  <dc:language>en-US</dc:language>
  <cp:lastModifiedBy>Berczik Andrea</cp:lastModifiedBy>
  <dcterms:modified xsi:type="dcterms:W3CDTF">2004-09-09T21:20:28Z</dcterms:modified>
  <cp:revision>5</cp:revision>
  <dc:subject/>
  <dc:title>A pszichológia mint tudomány</dc:title>
</cp:coreProperties>
</file>